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bomb.wav" ContentType="audio/x-wav"/>
  <Override PartName="/ppt/media/image7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9DE-5D49-4026-8197-72B87DB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522-7EC2-4018-B59F-5A9454B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B72-A997-4883-A797-B457007E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89E-D7FB-47E7-8A44-7276DA16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05B-1761-43BB-9CAD-6EB7C4DA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72B-927E-40CC-B78F-B645BE3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24B4-C336-47D8-B7F3-E81DE42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7F7D-5546-4D74-BF91-091EF33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ABF3-F61D-4F66-AA74-C57FBC8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D859-9216-4CD6-A008-30654F8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A710-40AF-4CAD-A78A-F83AF80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656-29D8-4035-90B7-3C39097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7A3B-4DBB-4EE4-9E11-B93F2D1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CDA-CC6C-4275-8FF5-4E03D906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774-DA03-47E7-BF4C-98C06883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94BA-413C-401D-AF1A-A0384CB5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8B76-3F16-4BA3-AE8C-F8B02D1A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EF57-EB8B-40D2-8010-E5BACAF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CB43-08F4-4C12-A689-17A105C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CD82-00D2-4453-AF49-67E86453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7588-A28B-41F6-BFBE-96E1DA2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E770-7552-4C06-9A43-8F3077C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421-BD24-4A76-B59C-F9A3276C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0622-6DD6-4FF9-B25D-72F8062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93F7-11B6-4DB1-AD8B-EE18EF1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BAAF-DAC5-490A-8915-655ADDB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8A65-E6F9-4FAC-BC05-0DCE4E7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D7DC-9E7C-4572-BFBA-9D60044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0F67-8362-472A-ACE4-7EE274D3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2CAB-EB21-42B0-A406-EAA59442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EEFE-3F50-4DC7-9640-FFA718DD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3D73-B321-4BE3-95A4-A09BB03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3F7A-D944-46FF-8EB2-19B103F1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315-B71D-45B3-870A-E6D082D6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9DF7-3591-4DF5-89F6-D0CC2C2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B1DF-23D4-4EA6-AE29-4030E39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676E-E2D2-4AF3-9D69-0BE97AC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0C20-E10A-47F5-9908-E5EE195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B94B-3379-4D74-A2F9-179CA6E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9B02-4D35-461B-8DEE-539728D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5D08-5697-4B04-B73D-46AA7E3B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DE10-2DE5-4A1F-B2CD-DA6613B0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FF99-0C4C-46CE-B46C-3F0B3DA9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5EBB-49C9-4F54-994E-5D19EE9E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2A5-E4AE-4B68-9E7A-F7A70911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2D25-5CD1-4341-9173-DD32573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7D77-1D73-43A7-AE75-32E5AEF3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6598-6759-424C-9330-654E0AC9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D5B5-4522-4459-B7A9-47E3A0EF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A711-E960-4F81-91A3-83241927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C6FB-36FD-4A3C-A56E-92EAE05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CC83-F3BC-4883-90D9-BE1535B7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6B3F-0B11-4012-BCC9-3D1399B7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B53E-4307-43F9-B310-C98972A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D29F0-C901-4D81-AA6D-BB42E8E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E30-362D-47AD-9938-9E265CA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16FA1-E3A8-4027-9481-35DA03C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DF3-09BA-4FBE-B864-E566D1D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FD5-C1FC-4839-924F-63EC7E6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392-8090-41EA-9991-E5E37C4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4B4-25F6-4D39-9E9B-3490EF83653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A63-2290-4A84-B9E4-D2E1782F4B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26CF-E97C-4E3D-8F19-C7F41285D46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8C80-FDA1-4029-BC80-1A0EAA5B995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3D6-60DF-4C72-AA6F-033C8E13D7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Ravie"/>
              </a:rPr>
              <a:t>Rainforest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Ravie"/>
              </a:rPr>
              <a:t>By JONATHAN AND ELOY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2" descr="C:\Documents and Settings\2014897\Local Settings\Temporary Internet Files\Content.IE5\BFKGQQB1\MP900401113[1].jpg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4200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0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Table of 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king co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Vampire 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Bengal ti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Pink dolph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Kapok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Dur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Bengal Bamb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ood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KING COBR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 is found near rivers and swampy  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King cobra can grow up to 12-18 f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ir fangs can grow a ½ in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y lay 18-50 egg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’s diet is rats and little anim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http://1.bp.blogspot.com/_MLxiBMONdQY/SNSaQfGlIvI/AAAAAAAAJJw/MXUEYqd_Qto/s400/cobra2-430.jpg"/>
          <p:cNvPicPr/>
          <p:nvPr/>
        </p:nvPicPr>
        <p:blipFill>
          <a:blip r:embed="rId1"/>
          <a:stretch/>
        </p:blipFill>
        <p:spPr>
          <a:xfrm>
            <a:off x="5562720" y="3657600"/>
            <a:ext cx="2762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Vampire B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533520"/>
            <a:ext cx="8763120" cy="418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eats Blo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It has a wingspan about 8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is a nocturnal ani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The Vampire Bat uses echeolo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When the Vampire Bat sleeps it sleeps ha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http://a-z-animals.com/media/animals/images/original/vampire_bat4.jpg"/>
          <p:cNvPicPr/>
          <p:nvPr/>
        </p:nvPicPr>
        <p:blipFill>
          <a:blip r:embed="rId1"/>
          <a:stretch/>
        </p:blipFill>
        <p:spPr>
          <a:xfrm>
            <a:off x="3809880" y="3352680"/>
            <a:ext cx="4848480" cy="303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Bengal Ti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http://assets.panda.org/img/bengal_tiger_112597_234481.jpg"/>
          <p:cNvPicPr/>
          <p:nvPr/>
        </p:nvPicPr>
        <p:blipFill>
          <a:blip r:embed="rId1"/>
          <a:stretch/>
        </p:blipFill>
        <p:spPr>
          <a:xfrm>
            <a:off x="533520" y="609480"/>
            <a:ext cx="3932280" cy="3276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756320" y="911160"/>
            <a:ext cx="3930480" cy="533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is a carnivorous a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weight of the Bengal tiger is 575 po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It eats boars, wild oxen, and monke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tiger can get up to 10 feet long and 3 feet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nap ITC"/>
              </a:rPr>
              <a:t>The Bengal tiger is a endangered a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Snap ITC"/>
                <a:ea typeface="MS Mincho"/>
              </a:rPr>
              <a:t>Pink Dolphi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Content Placeholder 4" descr="Pink Dolphin.jpg"/>
          <p:cNvPicPr/>
          <p:nvPr/>
        </p:nvPicPr>
        <p:blipFill>
          <a:blip r:embed="rId1"/>
          <a:stretch/>
        </p:blipFill>
        <p:spPr>
          <a:xfrm>
            <a:off x="457200" y="380880"/>
            <a:ext cx="4100400" cy="4299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0" y="4575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pink dolphin is flexi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can weigh 300 p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uses echoloc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doesn't have a pointed fin on the bac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eats f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Snap ITC"/>
              </a:rPr>
              <a:t>Kapok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Content Placeholder 4" descr="kapok_tree_print-p228855614253357718t5wm_400.jpg"/>
          <p:cNvPicPr/>
          <p:nvPr/>
        </p:nvPicPr>
        <p:blipFill>
          <a:blip r:embed="rId1"/>
          <a:stretch/>
        </p:blipFill>
        <p:spPr>
          <a:xfrm>
            <a:off x="514440" y="1251000"/>
            <a:ext cx="3932280" cy="294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756320" y="529920"/>
            <a:ext cx="3930480" cy="5337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It can grow to a   100 feet or m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straight trunk is cylindr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giant can extend to 30 fe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wood is a pinkish white to ashy br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nap ITC"/>
              </a:rPr>
              <a:t>The branches grow horizontal ti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14440" y="863640"/>
            <a:ext cx="76388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1:25:52Z</dcterms:created>
  <dc:creator>user</dc:creator>
  <dc:description/>
  <dc:language>en-US</dc:language>
  <cp:lastModifiedBy>user</cp:lastModifiedBy>
  <dcterms:modified xsi:type="dcterms:W3CDTF">2011-03-24T21:39:57Z</dcterms:modified>
  <cp:revision>26</cp:revision>
  <dc:subject/>
  <dc:title>Rainforest By JONATHAN AND ELOY</dc:title>
</cp:coreProperties>
</file>